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921-8001-44F7-BD81-187C1B85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8A4-BC0F-42A2-AB34-AE4C421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638-EF52-46FE-9D54-C3B0E1E4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D49-34D5-43CB-BC29-69253AB1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34D-2031-48A8-865C-19660C43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B86-6699-4020-8C95-3EA0103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CBC-22BC-4D91-BDD3-D1F12CCD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825-C84C-4824-B938-E2646D4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29E-B17D-4357-96C8-96FFE81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A9C-9BC3-4C62-9D40-5049921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7EF-8194-453B-BCB7-E2E4295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7F5-00A9-442D-933A-10A64C0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F4D-6300-4C16-8D6B-B4C45D473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 Clase 7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9 de nov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Cuántos herman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ienen Uds. un perro o un g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320" y="1208160"/>
            <a:ext cx="222876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05320" y="1295280"/>
            <a:ext cx="17222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924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4419720"/>
            <a:ext cx="259056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666880" y="4343400"/>
            <a:ext cx="143676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440" y="30621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tent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400" y="3519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4120" y="31384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8240" y="3214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oj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1080" y="61866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ervios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9200" y="5805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anquil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28520" y="6033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ferm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38200" y="6186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ns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361960" cy="184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2590920" cy="250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0760" y="198108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410080" y="762120"/>
            <a:ext cx="9144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05160" y="213336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14400" y="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fi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f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914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cale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temper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1644480"/>
            <a:ext cx="19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calofr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hi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3200400"/>
            <a:ext cx="914400" cy="3808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5600" y="3048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gr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he F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523880" y="4114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840" y="34290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Resf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1120" y="396252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t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867280"/>
            <a:ext cx="266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Guardar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tay in b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41000" y="28954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9440" y="51814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ñ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9080" y="571500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Klee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59000" y="565308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2880" y="603396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0840" y="260496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1432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1148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781680" y="3505320"/>
            <a:ext cx="18208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6400" y="27432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19360" y="290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estom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320" y="595800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1960" y="5334120"/>
            <a:ext cx="274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uen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goo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4600" y="5226120"/>
            <a:ext cx="259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al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ba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2-43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0:06:20Z</dcterms:created>
  <dc:creator>Helen Zumaeta</dc:creator>
  <dc:description/>
  <dc:language>en-US</dc:language>
  <cp:lastModifiedBy>Helen Zumaeta</cp:lastModifiedBy>
  <dcterms:modified xsi:type="dcterms:W3CDTF">2012-11-16T20:10:52Z</dcterms:modified>
  <cp:revision>4</cp:revision>
  <dc:subject/>
  <dc:title>Me llamo __________ Clase 7 IM La fecha es el 7 de abril del 2011</dc:title>
</cp:coreProperties>
</file>